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7B7-3639-422E-B570-A653D551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DB1-683E-4BBF-9F94-D9ACF159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46F-1779-4263-A086-1EA04FA3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E10B-772B-4821-A0DB-9FBE7CE7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8E0-2E8F-4E11-931F-0364483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62B-E791-4B2A-BBD0-0BA85094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516-7AE1-488F-8803-EAD300B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2E3-E8F6-4228-9217-FA3DF67D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D54-DA2D-4C87-84BD-928B0DDE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FDD-43AA-40F3-B2E3-3570D037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4AF-30BD-420D-A853-F2A5DB5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80D-072B-4BD1-97A5-0EB2B6E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askerville Old Fa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 Old Fac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askerville Old Fa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 Old Fac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askerville Old Fac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0359-E51E-464A-8CCB-7280247B6A2A}" type="slidenum">
              <a:rPr b="0" lang="en-US" sz="1400" spc="-1" strike="noStrike">
                <a:solidFill>
                  <a:srgbClr val="000000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WB/ACL-02/akkadian2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WB/ACL-02/manystars.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file:///PWB/ACL-02/generate1.html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PWB/ACL-02/generate2.html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rsing Akkadian Verbs in Prolog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aron Mack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Brandeis University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0196"/>
          <a:stretch/>
        </p:blipFill>
        <p:spPr>
          <a:xfrm>
            <a:off x="838080" y="4114800"/>
            <a:ext cx="7669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075-65DD-4538-858F-7543FD810C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- verb(A,B,C, Type, [ii,p,u,s],[]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rb(Ca, Cb, Cc, ['G'|Type], Verb) :- [gstem],g(Ca, Cb, Cc, Type, Verb, []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(Ca, Cb, Cc, ['Preterite'|Type], Verb, Suff) :- gpret(Ca, Cb, Cc, Type, Verb, Suff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pret(Ca, Cb, Cc, [‘First Aleph’|Type], Verb, Suff) :- fstwgpret(Ca, Cb, Cc, Verb, Suff, Type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tweakgpred([@], Cb, Cc, [3, c,  s]) --&gt; [ii], Cb, vs, Cc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@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p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= 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= ['G', 'Preterite', 'First Aleph', 3, c, s]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325-0C24-496A-B502-B825F9EFC8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Rule Coun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body of the parser consists of 601 DCG rules: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21 Vowel rul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4 String-to-PlNF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47 Suffi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Remaining 529 in the stem definitions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239 - G-Ste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193 - D-Ste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93 - N-Ste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CAA-E771-4D41-A39C-F6FB9B10AE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CG Ru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imple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stweakgpred([@], Cb, Cc, [3, c,  s]) --&gt; [ii], Cb, vs, C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Derivativ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stweakgpred([@], Cb, Cc, [2, f, s])--&gt; fstweakgpred([w], Cb, Cc, [2, m, s]), [ii]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dur([Ca], Cb, Cc, ['Third Weak'|Type], Verb, Suff) :-trdwgdur([Ca,Ca], Cb, Cc, Type, Verb, Suff)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5E1-B5D7-4A52-8745-EA7E2ADE5E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60B-1B2B-48CF-A2DF-0C2F254051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Flo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eb forms send data to parseAkk clas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arseAkk reformats data, sends to akkadian class, executes Prolog cod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718000" cy="50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8066160" cy="7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64A-7E5F-4420-83D6-5C3F4EA0BC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xtra Java Featur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* expansion for pars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940200" cy="3011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6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CBE-BE54-433D-8D2B-8D586CC412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 Java Featur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ny’ keyword for generatio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Generates all possible vowel variatio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dds the -ma suffi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an create large files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Baskerville Old Face"/>
                <a:hlinkClick r:id="rId1"/>
              </a:rPr>
              <a:t>prs, 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askerville Old Fac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14212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5C3-3750-40F0-9226-1EB7FB6CDE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DD2-3890-4E38-8B60-063617342D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rsing Examp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?- verb(A,B,C,T, [i,p,r,u,s])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= p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= r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= s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= ['G', 'Preterite', 3, c, s] ;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?- verb(p,r,s,[‘G’,’Preterite’, 2,c,p],Plnf)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a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e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i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u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?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erb(p,r,s,[S,’Preterite’, 2,c,p],Plnf)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538-0D8B-4A4A-B47C-DF667C6E86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a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e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u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D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u, p, a, r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’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a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e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i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u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FE8-5621-4CCE-8AC0-9562D620F97C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6DE-3E61-443D-A4DB-041C19A8B5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uffix Examp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mhur$inaati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 Preterite 3 c s Accus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ddin$inaa$i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d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Preterite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n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Preterite First N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@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Durative First Aleph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w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Durative First W Stative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n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Precative First N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@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D Imperative First Weak 2 m s Davi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AF4-88CE-469B-BB4D-3BD9AFF64F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eb Examp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879560"/>
            <a:ext cx="2781360" cy="55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514600"/>
            <a:ext cx="820584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352680"/>
            <a:ext cx="816768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014-21D7-44C9-BF37-61F8EF86F2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Akkadian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Verbal system based on three radicals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askerville Old Fac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-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askerville Old Fac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-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askerville Old Face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, commonly from the verb paräsum: P-R-S(to divide)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ny one or more radical can be ‘weak’ from letters in the earlier Proto-Semitic which dropped out or a soundless Aleph(’), i.e. elûm  ’-L-weak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8E9-364F-4B26-9C1D-57E6B170F9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Verbs in Akkadian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Description of a conjugated verb has six par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tem: P-R-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tem type: G, D, N, $, Xt, Xn, Xt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son: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askerville Old Face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askerville Old Face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askerville Old Face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ender: M, F or commo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Number: Singular or plural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ense: Preterite, durative, perfect, imperfect, precative or vetitiv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x: iprus -&gt; PRS, 3CS, G-Preterit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qabbû-ma -&gt; QB`, 3MP, G-Durativ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1B5-84A5-455D-9176-CA130493F3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E71-697E-41B6-94CB-7234EDB06E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rolog Introduction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ogical programming language, emerged in the 1970’s, ISO standard in 1996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Modern implementations can accept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eclaration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ther(X,Y) :- male(X),parent(X,Y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CG(definite clause grammar) rule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X,Y) --&gt; [c]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X,Y) --&gt; X, s(X,Y), Y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--&gt; s([a],[b]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867-F02C-4143-9302-5C670DAD67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CGs Continued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a,a,a,c,b,b,b],[]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a,a,a,c,b,b,b,d,d], T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 = [d, d]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a,a,a,c,b,b|N],T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[b|_G293]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 = _G293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n,i],[e], O, []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 = [c] 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 = [n, i, c, e] 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 = [n, i, n, i, c, e, e]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758-EDC5-4FA7-A4FB-439E96F35F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506-55CD-46F0-922C-721F8C10F9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rogram Flo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?- verb(A,B,C,Type,[i,p,r,u,s]).</a:t>
            </a:r>
            <a:endParaRPr b="0" lang="en-US" sz="26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Prolog call to parse iprus,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, 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bound to the ste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a string of the verb type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call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-suffix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-suffix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-suffi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ac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call:  preterite, perfect, durative, imperfect, vetitive, and precativ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ach of the tenses call: strong, first-weak, second-weak, and third-weak.  Some also have A, E, N, or W classes as well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070-4900-46F1-9DDA-06B73540CE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21:54:09Z</dcterms:created>
  <dc:creator>Aaron Macks</dc:creator>
  <dc:description/>
  <cp:keywords>Akkadian Prolog Wiglaf ACL-02 Semitic Language Natural Language</cp:keywords>
  <dc:language>en-US</dc:language>
  <cp:lastModifiedBy>Aaron D Macks</cp:lastModifiedBy>
  <cp:lastPrinted>1904-01-01T00:00:00Z</cp:lastPrinted>
  <dcterms:modified xsi:type="dcterms:W3CDTF">2002-07-15T16:45:33Z</dcterms:modified>
  <cp:revision>68</cp:revision>
  <dc:subject/>
  <dc:title>PowerPoint Presentation  -  Parsing Akkadian Verbs in Prolog</dc:title>
</cp:coreProperties>
</file>