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8FD-BEF7-40EA-8DDB-C3A449FE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1F0-23BF-48BE-8FAE-636FCA7A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20A-66F8-4C31-BEBF-547156F5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A7A-B886-4DBE-94B6-F3945E0C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457-7352-45EC-AE6A-47038E6F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95C-9DC5-4A30-AC41-7E7F7DD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92C-0F83-4FF5-B83B-0F0AC67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3C9-48EA-4F39-9388-38785BC3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350-4DD8-42D6-B42A-1089A723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F76-C1B8-41ED-A812-3B64BF12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2B6-C509-4192-80D4-846ECB30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267-C245-4B2A-995F-286D8064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askerville Old Fa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askerville Old Fa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 Old Fac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askerville Old Fa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kerville Old Fac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askerville Old Fac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F80A-E9C4-43B4-99F7-EEA3F86F15A6}" type="slidenum">
              <a:rPr b="0" lang="en-US" sz="1400" spc="-1" strike="noStrike">
                <a:solidFill>
                  <a:srgbClr val="000000"/>
                </a:solidFill>
                <a:latin typeface="Baskerville Old Fac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PWB/ACL-02/akkadian2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PWB/ACL-02/manystars.html" TargetMode="External"/><Relationship Id="rId2" Type="http://schemas.openxmlformats.org/officeDocument/2006/relationships/image" Target="../media/image7.png"/><Relationship Id="rId3" Type="http://schemas.openxmlformats.org/officeDocument/2006/relationships/hyperlink" Target="file:///PWB/ACL-02/generate1.html" TargetMode="External"/><Relationship Id="rId4" Type="http://schemas.openxmlformats.org/officeDocument/2006/relationships/image" Target="../media/image8.png"/><Relationship Id="rId5" Type="http://schemas.openxmlformats.org/officeDocument/2006/relationships/hyperlink" Target="file:///PWB/ACL-02/generate2.html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arsing Akkadian Verbs in Prolog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Aaron Mack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Brandeis University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10196"/>
          <a:stretch/>
        </p:blipFill>
        <p:spPr>
          <a:xfrm>
            <a:off x="838080" y="4114800"/>
            <a:ext cx="76694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187-333D-4D37-A57A-9596040434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- verb(A,B,C, Type, [ii,p,u,s],[])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rb(Ca, Cb, Cc, ['G'|Type], Verb) :- [gstem],g(Ca, Cb, Cc, Type, Verb, [])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(Ca, Cb, Cc, ['Preterite'|Type], Verb, Suff) :- gpret(Ca, Cb, Cc, Type, Verb, Suff)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pret(Ca, Cb, Cc, [‘First Aleph’|Type], Verb, Suff) :- fstwgpret(Ca, Cb, Cc, Verb, Suff, Type)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tweakgpred([@], Cb, Cc, [3, c,  s]) --&gt; [ii], Cb, vs, Cc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 @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 = p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 = 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ype = ['G', 'Preterite', 'First Aleph', 3, c, s]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5371-F330-48C7-AA00-C70F50C404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Rule Count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The body of the parser consists of 601 DCG rules: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21 Vowel rule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4 String-to-PlNF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47 Suffix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Remaining 529 in the stem definitions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239 - G-Ste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193 - D-Ste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93 - N-Ste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37C-2A1A-4D6A-A80F-500E4DF90C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DCG Rul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Simple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stweakgpred([@], Cb, Cc, [3, c,  s]) --&gt; [ii], Cb, vs, C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Derivativ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stweakgpred([@], Cb, Cc, [2, f, s])--&gt; fstweakgpred([w], Cb, Cc, [2, m, s]), [ii]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dur([Ca], Cb, Cc, ['Third Weak'|Type], Verb, Suff) :-trdwgdur([Ca,Ca], Cb, Cc, Type, Verb, Suff)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7DB-F496-4100-9AE9-96872EBEB7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E4D-CC73-42E8-978F-EEB4EF6DCA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Flo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Web forms send data to parseAkk clas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arseAkk reformats data, sends to akkadian class, executes Prolog cod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718000" cy="507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8066160" cy="7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8F0-F93C-49F6-A43A-AA70EA53BC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xtra Java Featur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* expansion for pars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940200" cy="3011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4643640" cy="37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13C-8835-4AD5-9C8D-C9658F9DA0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ore Java Featur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Any’ keyword for generatio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Generates all possible vowel variatio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Adds the -ma suffix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Can create large files [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Baskerville Old Face"/>
                <a:hlinkClick r:id="rId1"/>
              </a:rPr>
              <a:t>prs, An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askerville Old Face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814212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A2C-1F8B-4D6C-8945-9D2CC91D53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374-788B-4D30-9732-527FEA3822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arsing Exampl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?- verb(A,B,C,T, [i,p,r,u,s])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 = p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 = r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= s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98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 = ['G', 'Preterite', 3, c, s] ;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?- verb(p,r,s,[‘G’,’Preterite’, 2,c,p],Plnf)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nf = [t, a, p, r, a, s, aa] ;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nf = [t, a, p, r, e, s, aa] ;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nf = [t, a, p, r, i, s, aa] ;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nf = [t, a, p, r, u, s, aa] ;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?-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erb(p,r,s,[S,’Preterite’, 2,c,p],Plnf)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1CD-407B-43E6-8982-BB798190E7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G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r, a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G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r, e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G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G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r, u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D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u, p, a, r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N’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p, a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N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p, e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N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p, i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em = 'N'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 = [i, p, p, u, r, i, s] ;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474-DA50-4FB7-AFCD-7238BE4BD1EB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5E8-7AAB-4333-919A-A9FB6606FD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Suffix Exampl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mhur$inaati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 Preterite 3 c s Accus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ddin$inaa$i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d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Preterite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n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Preterite First N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@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Durative First Aleph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w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Durative First W Stative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n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G Precative First N 3 c s Dativ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askerville Old Face"/>
              </a:rPr>
              <a:t>@-d-n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--D Imperative First Weak 2 m s Davie 3 f 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50F-9E3C-4B90-BB36-475FF75C085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eb Exampl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879560"/>
            <a:ext cx="2781360" cy="55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514600"/>
            <a:ext cx="8205840" cy="723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352680"/>
            <a:ext cx="816768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F01-4077-43E8-91AE-654A2B483C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Akkadian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Verbal system based on three radicals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askerville Old Face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-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askerville Old Face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-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Baskerville Old Face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, commonly from the verb paräsum: P-R-S(to divide)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Any one or more radical can be ‘weak’ from letters in the earlier Proto-Semitic which dropped out or a soundless Aleph(’), i.e. elûm  ’-L-weak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DED-3823-411A-BEA6-FB86F322B9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Verbs in Akkadian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Description of a conjugated verb has six part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tem: P-R-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Stem type: G, D, N, $, Xt, Xn, Xtn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Person: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askerville Old Face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askerville Old Face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,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askerville Old Face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Gender: M, F or common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Number: Singular or plural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ense: Preterite, durative, perfect, imperfect, precative or vetitiv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x: iprus -&gt; PRS, 3CS, G-Preterit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iqabbû-ma -&gt; QB`, 3MP, G-Durativ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982-B0B2-4574-B781-19174CFEB0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341-4556-40C2-8B82-B6739FA330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rolog Introduction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Logical programming language, emerged in the 1970’s, ISO standard in 1996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Modern implementations can accept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Declarations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ther(X,Y) :- male(X),parent(X,Y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DCG(definite clause grammar) rules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X,Y) --&gt; [c]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X,Y) --&gt; X, s(X,Y), Y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 --&gt; s([a],[b]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192-2BDD-47D1-8225-9CD7ECA20D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DCGs Continued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[a,a,a,c,b,b,b],[]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[a,a,a,c,b,b,b,d,d], T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 = [d, d]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[a,a,a,c,b,b|N],T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[b|_G293]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 = _G293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([n,i],[e], O, [])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 = [c] 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 = [n, i, c, e] ;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 = [n, i, n, i, c, e, e]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551-19AC-4EC3-872E-2943761D22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Akkadian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Parsing using Prolo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Java and web interfac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Baskerville Old Fac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A7A-62FE-4EB9-994D-EBBDEC1907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rogram Flow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?- verb(A,B,C,Type,[i,p,r,u,s]).</a:t>
            </a:r>
            <a:endParaRPr b="0" lang="en-US" sz="2600" spc="-1" strike="noStrike">
              <a:solidFill>
                <a:srgbClr val="000000"/>
              </a:solidFill>
              <a:latin typeface="Baskerville Old Fac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Prolog call to parse iprus,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, 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 bound to the ste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 a string of the verb type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call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-suffix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-suffix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-suffix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ach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 call:  preterite, perfect, durative, imperfect, vetitive, and precativ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Each of the tenses call: strong, first-weak, second-weak, and third-weak.  Some also have A, E, N, or W classes as well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L-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9F4-5953-4751-BB3F-A6476F9C60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7/11/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21:54:09Z</dcterms:created>
  <dc:creator>Aaron Macks</dc:creator>
  <dc:description/>
  <cp:keywords>Akkadian Prolog Wiglaf ACL-02 Semitic Language Natural Language</cp:keywords>
  <dc:language>en-US</dc:language>
  <cp:lastModifiedBy>Aaron D Macks</cp:lastModifiedBy>
  <cp:lastPrinted>1904-01-01T00:00:00Z</cp:lastPrinted>
  <dcterms:modified xsi:type="dcterms:W3CDTF">2002-07-15T16:45:33Z</dcterms:modified>
  <cp:revision>68</cp:revision>
  <dc:subject/>
  <dc:title>PowerPoint Presentation  -  Parsing Akkadian Verbs in Prolog</dc:title>
</cp:coreProperties>
</file>